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5.jpeg" ContentType="image/jpeg"/>
  <Override PartName="/ppt/media/image8.png" ContentType="image/png"/>
  <Override PartName="/ppt/media/image28.gif" ContentType="image/gif"/>
  <Override PartName="/ppt/media/image3.png" ContentType="image/png"/>
  <Override PartName="/ppt/media/image17.jpeg" ContentType="image/jpeg"/>
  <Override PartName="/ppt/media/image23.gif" ContentType="image/gif"/>
  <Override PartName="/ppt/media/image11.png" ContentType="image/png"/>
  <Override PartName="/ppt/media/image19.jpeg" ContentType="image/jpeg"/>
  <Override PartName="/ppt/media/image27.jpeg" ContentType="image/jpeg"/>
  <Override PartName="/ppt/media/image21.jpeg" ContentType="image/jpeg"/>
  <Override PartName="/ppt/media/image18.jpeg" ContentType="image/jpeg"/>
  <Override PartName="/ppt/media/image15.gif" ContentType="image/gif"/>
  <Override PartName="/ppt/media/image14.gif" ContentType="image/gif"/>
  <Override PartName="/ppt/media/image16.jpeg" ContentType="image/jpeg"/>
  <Override PartName="/ppt/media/for%20Christmas.wav" ContentType="audio/x-wav"/>
  <Override PartName="/ppt/media/image6.png" ContentType="image/png"/>
  <Override PartName="/ppt/media/image26.gif" ContentType="image/gif"/>
  <Override PartName="/ppt/media/image13.jpeg" ContentType="image/jpeg"/>
  <Override PartName="/ppt/media/image24.gif" ContentType="image/gif"/>
  <Override PartName="/ppt/media/image1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E88-AA0A-4E67-9E12-14E2029E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AB8-0F69-4337-B979-3CB3F7C5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19D-6636-43D0-894F-502A382D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113-FBA2-4F8F-BEC5-15C4CC4F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0912-BE50-4DF6-8717-BADAA2E2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CB83-7C6E-4D31-B0FC-43B94171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7DD4-4803-4A8B-AD19-C3240EF0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7028-AE5E-4D3A-8831-A5F4D319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7E4C-C56C-48C9-BCCB-590CAD02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96B4-8E9A-4831-ADCD-25303E0F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8AB2-8A00-473E-A699-8D059B37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287-B4FB-4884-89ED-65312220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6A48-F54F-41D9-9C87-A119F643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ED77-8CD9-4721-8787-48D9100A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C41A-C252-48C5-8488-2D5A0208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3A38-61FC-48F5-81A1-04461B40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E4E4-6F67-4CFA-AFD5-CD4BDA38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5FA0-0445-44FA-A4C9-A1841F17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6699-D379-46B3-965D-092C8048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10502-38B7-4907-A1A9-EF947757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04690-A8D6-4CF7-B7E7-BE5BE89F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F8B0B-F8F9-49AB-A122-73764BA1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323-6A8D-487D-8CE3-38D0A402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F8873-5645-458F-A34D-43739ED5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BCE20-E48E-448B-8845-A2EAEB94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B01BC-755C-446A-B740-1604C895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7C61-426A-4221-80FD-C49DB681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D1AEC-3FD2-488E-9A78-BE40F671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646E1-021A-4F87-9A6E-92D73536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C8E1-C4E6-4D63-A16C-D6280264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65F8F-6EFB-420A-8EBE-73A139B2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F98F7-F8E0-4BC4-9006-0B7BF680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CBE25-B4F3-4EB6-9DCF-08741D20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F9C-AA51-4E59-A597-88E9D1A5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05B9-C408-41A0-9E87-7839490C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C7C4-33D5-4BAB-AB5B-777A440F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E807B-A296-465C-B17A-2F4AE682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2E5DE-4512-48E9-9689-2EE2DE16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02D8-551D-4A04-8DE2-CB173481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1D90-EA72-4195-99C0-CEAFB448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1101E-71B8-4616-8D90-2C53FFA0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D12E-533D-4D67-860C-B2EFA99F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D73CF-350A-4AF6-BA41-D1ED2ABE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8A1-6041-4E49-9E9E-C8D9A934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88E-89C9-4FC1-8B0D-D24B9B64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13D-62DB-4508-B307-4E5F32D5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F3E-8A09-47CC-8556-F75F315D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5E6-F74E-4F56-8005-567031F1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F5D9-25E4-4C05-8BDC-AA637E90D7C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E9BC-225D-45F0-BFF8-A2B6D01904F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35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5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35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36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36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7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7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1167-A491-4E0C-8FB8-06C7715F9D4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3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3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5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5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5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46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46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729C-FDB0-4F4D-81EC-C2EFC536D8E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for%20Christmas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324000" y="1628280"/>
            <a:ext cx="7632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11280" y="189000"/>
            <a:ext cx="77724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ll I Want For Christmas Is Yo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8" name=""/>
          <p:cNvSpPr/>
          <p:nvPr/>
        </p:nvSpPr>
        <p:spPr>
          <a:xfrm>
            <a:off x="250920" y="3357720"/>
            <a:ext cx="8893080" cy="368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avid.G       Sergio.F       Marcos.B     Anabel.E      Alba.C     Nerea.H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211640" y="4005360"/>
            <a:ext cx="108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6º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250920" y="4797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6948360" y="4797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  <p:sndAc>
      <p:stSnd>
        <p:snd r:embed="rId3" name="for%20Christma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33"/>
                </a:solidFill>
                <a:latin typeface="Arial Black"/>
              </a:rPr>
              <a:t>I don't want a lot for Christm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33"/>
                </a:solidFill>
                <a:latin typeface="Arial Black"/>
              </a:rPr>
              <a:t>There is just one thing I ne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8472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33"/>
                </a:solidFill>
                <a:latin typeface="Arial Black"/>
              </a:rPr>
              <a:t>I don't care about presents</a:t>
            </a:r>
            <a:br>
              <a:rPr sz="3200"/>
            </a:br>
            <a:r>
              <a:rPr b="1" lang="es-ES" sz="3200" spc="-1" strike="noStrike">
                <a:solidFill>
                  <a:srgbClr val="66ff33"/>
                </a:solidFill>
                <a:latin typeface="Arial Black"/>
              </a:rPr>
              <a:t>Underneath the Christmas tre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987640" y="3284640"/>
            <a:ext cx="2998800" cy="33843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2592360" cy="3429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6286680" y="3476520"/>
            <a:ext cx="2857320" cy="3381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Black"/>
              </a:rPr>
              <a:t>I don't need to hang my stock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Black"/>
              </a:rPr>
              <a:t>There upon the firepla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6408720" cy="417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 Black"/>
              </a:rPr>
              <a:t>Santa Claus won't make me happ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 Black"/>
              </a:rPr>
              <a:t>With a toy on Christmas d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 Black"/>
              </a:rPr>
              <a:t>I just want you for my own</a:t>
            </a:r>
            <a:br>
              <a:rPr sz="2800"/>
            </a:br>
            <a:r>
              <a:rPr b="1" lang="es-ES" sz="2800" spc="-1" strike="noStrike">
                <a:solidFill>
                  <a:srgbClr val="66ff33"/>
                </a:solidFill>
                <a:latin typeface="Arial Black"/>
              </a:rPr>
              <a:t>More than you could ever kn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41672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 Black"/>
              </a:rPr>
              <a:t>Make my wish come true</a:t>
            </a:r>
            <a:br>
              <a:rPr sz="4000"/>
            </a:br>
            <a:r>
              <a:rPr b="1" lang="es-ES" sz="4000" spc="-1" strike="noStrike">
                <a:solidFill>
                  <a:srgbClr val="66ff33"/>
                </a:solidFill>
                <a:latin typeface="Arial Black"/>
              </a:rPr>
              <a:t>All I want for Christmas is you..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4032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2340000" y="1557360"/>
            <a:ext cx="12240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prstDash val="sysDot"/>
            <a:miter/>
          </a:ln>
        </p:spPr>
      </p:pic>
      <p:sp>
        <p:nvSpPr>
          <p:cNvPr id="554" name=""/>
          <p:cNvSpPr/>
          <p:nvPr/>
        </p:nvSpPr>
        <p:spPr>
          <a:xfrm>
            <a:off x="539640" y="3213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45396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You baby</a:t>
            </a:r>
            <a:br>
              <a:rPr sz="2400"/>
            </a:b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I won't ask for much this Christmas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I won't even wish for snow  I'm just gonna keep on waiting</a:t>
            </a:r>
            <a:br>
              <a:rPr sz="2400"/>
            </a:b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0" y="-36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Underneath the mistletoe I won't make a list and send it to the North Pole for Saint Nick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I won't even stay awake to hear those magic reindeer click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'Cause I just want you here tonight holding on to me so tight</a:t>
            </a: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121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50920" y="333360"/>
            <a:ext cx="864216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What more can I do baby all I want for Christmas is you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You...</a:t>
            </a: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98720" y="0"/>
            <a:ext cx="3309480" cy="14655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Verdana"/>
              </a:rPr>
              <a:t>All the lights are shining</a:t>
            </a:r>
            <a:br>
              <a:rPr sz="1800"/>
            </a:br>
            <a:r>
              <a:rPr b="1" lang="en-US" sz="1800" spc="-1" strike="noStrike">
                <a:solidFill>
                  <a:srgbClr val="00ffff"/>
                </a:solidFill>
                <a:latin typeface="Verdana"/>
              </a:rPr>
              <a:t>So brightly every where</a:t>
            </a:r>
            <a:br>
              <a:rPr sz="1800"/>
            </a:br>
            <a:r>
              <a:rPr b="1" lang="en-US" sz="1800" spc="-1" strike="noStrike">
                <a:solidFill>
                  <a:srgbClr val="00ffff"/>
                </a:solidFill>
                <a:latin typeface="Verdana"/>
              </a:rPr>
              <a:t>And the sound of children's</a:t>
            </a:r>
            <a:br>
              <a:rPr sz="1800"/>
            </a:br>
            <a:r>
              <a:rPr b="1" lang="en-US" sz="1800" spc="-1" strike="noStrike">
                <a:solidFill>
                  <a:srgbClr val="00ffff"/>
                </a:solidFill>
                <a:latin typeface="Verdana"/>
              </a:rPr>
              <a:t>Laughter fills the air</a:t>
            </a:r>
            <a:br>
              <a:rPr sz="1800"/>
            </a:br>
            <a:r>
              <a:rPr b="1" lang="en-US" sz="1800" spc="-1" strike="noStrike">
                <a:solidFill>
                  <a:srgbClr val="00ffff"/>
                </a:solidFill>
                <a:latin typeface="Verdana"/>
              </a:rPr>
              <a:t>And everyone is singing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0" y="0"/>
            <a:ext cx="2987640" cy="256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I hear those sleigh bells ringing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anta won't you bring me the one I really need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Won't you please bring my baby tome...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Oh I don't want a lot for Christma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588000" y="0"/>
            <a:ext cx="2355840" cy="3111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is is all I'm asking f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 just want to see bab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anding right outside my do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h I just want him for my ow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re than you could ever know</a:t>
            </a: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0" y="0"/>
            <a:ext cx="4211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Make my wish come true</a:t>
            </a:r>
            <a:br>
              <a:rPr sz="1800"/>
            </a:b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Baby all I want for Christmas is</a:t>
            </a:r>
            <a:br>
              <a:rPr sz="1800"/>
            </a:b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You..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ll I want for Christmas is you baby...[Repeat]</a:t>
            </a: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Campanas de Navidad Animado, Campanas Animacieons Gratis"/>
          <p:cNvPicPr/>
          <p:nvPr/>
        </p:nvPicPr>
        <p:blipFill>
          <a:blip r:embed="rId1"/>
          <a:stretch/>
        </p:blipFill>
        <p:spPr>
          <a:xfrm>
            <a:off x="3203640" y="2637000"/>
            <a:ext cx="3492360" cy="2474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 txBox="1"/>
          <p:nvPr/>
        </p:nvSpPr>
        <p:spPr>
          <a:xfrm>
            <a:off x="250920" y="981000"/>
            <a:ext cx="4968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¡Feliz Navida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68360" y="5300640"/>
            <a:ext cx="32004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erry Christmas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I don’t want a lot for christm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There’s just one thing i ne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030920" cy="4784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Arial Black"/>
              </a:rPr>
              <a:t>I don’t care about presen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Arial Black"/>
              </a:rPr>
              <a:t>Underneath the Christm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Arial Black"/>
              </a:rPr>
              <a:t>tre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6300720" cy="37162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395280" y="4581360"/>
            <a:ext cx="2158920" cy="198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Black"/>
              </a:rPr>
              <a:t>I don't need to hang my stocking</a:t>
            </a:r>
            <a:br>
              <a:rPr sz="4000"/>
            </a:br>
            <a:r>
              <a:rPr b="1" lang="en-US" sz="4000" spc="-1" strike="noStrike">
                <a:solidFill>
                  <a:srgbClr val="66ff33"/>
                </a:solidFill>
                <a:latin typeface="Arial Black"/>
              </a:rPr>
              <a:t>There upon the fireplac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4048200" cy="31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684000" y="691920"/>
            <a:ext cx="80629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 Black"/>
              </a:rPr>
              <a:t>Santa Claus won't make me happ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 Black"/>
              </a:rPr>
              <a:t>With a toy on Christmas d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268360" y="2781360"/>
            <a:ext cx="504036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 Black"/>
              </a:rPr>
              <a:t>I just want you for my ow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 Black"/>
              </a:rPr>
              <a:t>More than you could ever kn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977080" cy="4241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Arial Black"/>
              </a:rPr>
              <a:t>Make my wish come tru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Arial Black"/>
              </a:rPr>
              <a:t>All I want for Christm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Arial Black"/>
              </a:rPr>
              <a:t>Is you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527640" cy="350028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309564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8:56:23Z</dcterms:created>
  <dc:creator>pc10</dc:creator>
  <dc:description/>
  <dc:language>en-US</dc:language>
  <cp:lastModifiedBy>pc10</cp:lastModifiedBy>
  <dcterms:modified xsi:type="dcterms:W3CDTF">2011-12-21T15:50:59Z</dcterms:modified>
  <cp:revision>7</cp:revision>
  <dc:subject/>
  <dc:title> All I Want For Christmas Is You </dc:title>
</cp:coreProperties>
</file>